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035-366A-4743-AFED-4CFD0256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1EC-0AC8-4C89-A769-7C4049DD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9A1-2DC1-4A5D-883F-1C8A2F3E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132-9D14-4D6D-9A69-E0C66E1F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91C-F28A-4462-A70C-0541FEC7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73C-C33A-4FDB-8932-0370E188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E8A-5E19-4BE2-9669-375F7854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447-7506-47B6-AB05-910D2BED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C28-CFC1-4B4D-B4D1-06BF35EA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10D-09FA-44CE-846F-6143B875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161-EDCE-4B6A-B0D1-7B91A4BC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021-99B5-4684-AD96-0A1B3DF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8907-D74B-407C-A457-FA5D2765D1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0000" y="1700280"/>
          <a:ext cx="1714320" cy="13111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八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3780000" y="342900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は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名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714840" y="3284640"/>
          <a:ext cx="1785960" cy="105552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な／め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小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643200" y="3284640"/>
          <a:ext cx="1928880" cy="1055520"/>
        </p:xfrm>
        <a:graphic>
          <a:graphicData uri="http://schemas.openxmlformats.org/drawingml/2006/table">
            <a:tbl>
              <a:tblPr/>
              <a:tblGrid>
                <a:gridCol w="192888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ちい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/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しょ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780000" y="1557360"/>
          <a:ext cx="1714320" cy="13111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学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000240" y="3141720"/>
          <a:ext cx="3429000" cy="10555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が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chool(1</a:t>
                      </a:r>
                      <a:r>
                        <a:rPr b="1" lang="en-NZ" sz="2000" spc="-1" strike="noStrike" baseline="30000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t</a:t>
                      </a: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 half)/to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708360" y="1484280"/>
          <a:ext cx="1714680" cy="131148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何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708360" y="3213000"/>
          <a:ext cx="1714680" cy="105588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なに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なん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w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708360" y="1341360"/>
          <a:ext cx="1714680" cy="131148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半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はん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ha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一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い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口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く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m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635280" y="105264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年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ねん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／と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し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才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さ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years 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三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さ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男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714840" y="3284640"/>
          <a:ext cx="1857240" cy="105552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おとこ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/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708360" y="1341360"/>
          <a:ext cx="1714680" cy="131148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右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ぎ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五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土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atur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時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571920" y="2901960"/>
          <a:ext cx="2000160" cy="1055520"/>
        </p:xfrm>
        <a:graphic>
          <a:graphicData uri="http://schemas.openxmlformats.org/drawingml/2006/table">
            <a:tbl>
              <a:tblPr/>
              <a:tblGrid>
                <a:gridCol w="200016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hour/o’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七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し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な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e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071880" y="3284640"/>
          <a:ext cx="3571920" cy="105552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it/go out/le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九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きゅ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先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57720" y="3284640"/>
          <a:ext cx="2571480" cy="105552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せん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,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十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じゅ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火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714840" y="2901960"/>
          <a:ext cx="1785960" cy="105552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uesday/f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木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643200" y="2901960"/>
          <a:ext cx="2000520" cy="1055520"/>
        </p:xfrm>
        <a:graphic>
          <a:graphicData uri="http://schemas.openxmlformats.org/drawingml/2006/table">
            <a:tbl>
              <a:tblPr/>
              <a:tblGrid>
                <a:gridCol w="200052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も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hursday/t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金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43200" y="2901960"/>
          <a:ext cx="1928880" cy="1055520"/>
        </p:xfrm>
        <a:graphic>
          <a:graphicData uri="http://schemas.openxmlformats.org/drawingml/2006/table">
            <a:tbl>
              <a:tblPr/>
              <a:tblGrid>
                <a:gridCol w="192888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き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か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Friday/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四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よ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日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71920" y="2901960"/>
          <a:ext cx="2000160" cy="1055520"/>
        </p:xfrm>
        <a:graphic>
          <a:graphicData uri="http://schemas.openxmlformats.org/drawingml/2006/table">
            <a:tbl>
              <a:tblPr/>
              <a:tblGrid>
                <a:gridCol w="200016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に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un/day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目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eye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年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ね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と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円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え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y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校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429000" y="2901960"/>
          <a:ext cx="2286000" cy="105552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こ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chool(2</a:t>
                      </a:r>
                      <a:r>
                        <a:rPr b="1" lang="en-GB" sz="2000" spc="-1" strike="noStrike" baseline="30000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n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 ha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語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生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500280" y="2901960"/>
          <a:ext cx="2571840" cy="10555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せ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じょ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tudent/to be bo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429000" y="2901960"/>
          <a:ext cx="2214720" cy="105552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ひ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に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じ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p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六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ろ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入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は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い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o 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分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286080" y="2901960"/>
          <a:ext cx="2857680" cy="1055520"/>
        </p:xfrm>
        <a:graphic>
          <a:graphicData uri="http://schemas.openxmlformats.org/drawingml/2006/table">
            <a:tbl>
              <a:tblPr/>
              <a:tblGrid>
                <a:gridCol w="285768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ふ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ぷ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minute/to under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左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ひだ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女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おん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wo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子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大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お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だ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b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本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ほ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b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手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hand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中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な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in/in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今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い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こ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前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429000" y="3284640"/>
          <a:ext cx="3071880" cy="105552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ま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/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ぜ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front of/bef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行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こ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o 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上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714840" y="3357720"/>
          <a:ext cx="2071440" cy="1055520"/>
        </p:xfrm>
        <a:graphic>
          <a:graphicData uri="http://schemas.openxmlformats.org/drawingml/2006/table">
            <a:tbl>
              <a:tblPr/>
              <a:tblGrid>
                <a:gridCol w="207144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う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/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じょ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/abo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月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357720" y="2901960"/>
          <a:ext cx="2500200" cy="1055520"/>
        </p:xfrm>
        <a:graphic>
          <a:graphicData uri="http://schemas.openxmlformats.org/drawingml/2006/table">
            <a:tbl>
              <a:tblPr/>
              <a:tblGrid>
                <a:gridCol w="250020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げ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が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つき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Monday/month/m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二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水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08360" y="3284640"/>
          <a:ext cx="1714680" cy="10555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すい／みず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Wednesday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2:13Z</dcterms:created>
  <dc:creator>k.ludgate</dc:creator>
  <dc:description/>
  <dc:language>en-US</dc:language>
  <cp:lastModifiedBy>Wellington College User</cp:lastModifiedBy>
  <dcterms:modified xsi:type="dcterms:W3CDTF">2009-09-12T21:55:03Z</dcterms:modified>
  <cp:revision>23</cp:revision>
  <dc:subject/>
  <dc:title>Slide 1</dc:title>
</cp:coreProperties>
</file>